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2D3B-682E-4FD0-B2AF-3B094061D40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are classified as soluble if a good deal of solid visibly when added to water. On the other hand, if only a small amount of solid dissolves, the solid is slightly soluble. If no solid can be observed to dissolve, the substance is described as insoluble. Be aware that insoluble is a relative term and does not mean that no solute dissolves. Keep in mind also that an ionic compound can have a low solubility, but still be a strong electroly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677F3-E67E-48C4-B1BE-DB98B423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3C3F-8924-4CB6-AB16-83A34B56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2990A-6197-492D-8AEB-73FAE0CE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5B2B-E5D5-4DC0-9519-638A4AFF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C4C2-41AC-467D-8C23-B4D3716C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A906-5E11-40C9-947C-51192450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7637-41FE-4E85-A8C4-FB6F6353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343F-C01B-4CE0-BBC4-2B2AA2B2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7780-76A3-4BBE-8113-B041B072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13EA-C654-4F7B-AE1C-0598734A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2B07-415D-44EE-B6F2-BAD054CD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558E-0A9F-443C-9A7A-6F915EB4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B0E9-F62E-4B28-96BF-7AA5BA6A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105D-F9E3-40FC-86C2-77D9BD2A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44DD-B811-475A-B517-CEEDA073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0A19-D54D-4A0F-A525-4EAF2469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0189-EE9C-499E-9A88-5141C16A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514F5-17BD-43B6-B0FB-C6F7A53C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B4D8D-8A91-4E3B-B85D-4C6086C0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BB84C-EBC4-4498-8B8E-4D0BD1CB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308D0-4E11-440E-A439-415C63EF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8EE23-8788-4E98-8F6F-E065321F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0913C-E652-4EBA-8B01-9BBAA8A3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94D4-A3B2-4818-A8FF-C5BDE1A5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1934-B387-435F-856F-C75175711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3609-765E-4B58-909B-ABB5DB03D7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Displacem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you will lear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edict the solubility of a product and if precipiate is formed using solubilit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dict weather a reaction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rite a complete balanced equation for a double displacement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 Displacement Reactions tha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 a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73440" y="1196640"/>
            <a:ext cx="921708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6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ne product of the double displacement decomposes to give </a:t>
            </a: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WATER and a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s type has two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7d"/>
                </a:solidFill>
                <a:latin typeface="Arial"/>
              </a:rPr>
              <a:t>1. The double displac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7d"/>
                </a:solidFill>
                <a:latin typeface="Arial"/>
              </a:rPr>
              <a:t>2. The decomposition of one of the products of double displacement to form water and a g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Steps to solving double displacement reactions that produce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erform the double displace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7d"/>
                </a:solidFill>
                <a:latin typeface="Arial"/>
              </a:rPr>
              <a:t>        </a:t>
            </a:r>
            <a:r>
              <a:rPr b="1" lang="en-CA" sz="2800" spc="-1" strike="noStrike">
                <a:solidFill>
                  <a:srgbClr val="00007d"/>
                </a:solidFill>
                <a:latin typeface="Arial"/>
              </a:rPr>
              <a:t>Na</a:t>
            </a:r>
            <a:r>
              <a:rPr b="1" lang="en-CA" sz="2800" spc="-1" strike="noStrike" baseline="-25000">
                <a:solidFill>
                  <a:srgbClr val="00007d"/>
                </a:solidFill>
                <a:latin typeface="Arial"/>
              </a:rPr>
              <a:t>2</a:t>
            </a:r>
            <a:r>
              <a:rPr b="1" lang="en-CA" sz="2800" spc="-1" strike="noStrike">
                <a:solidFill>
                  <a:srgbClr val="00007d"/>
                </a:solidFill>
                <a:latin typeface="Arial"/>
              </a:rPr>
              <a:t>CO</a:t>
            </a:r>
            <a:r>
              <a:rPr b="1" lang="en-CA" sz="28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r>
              <a:rPr b="1" lang="en-CA" sz="2800" spc="-1" strike="noStrike">
                <a:solidFill>
                  <a:srgbClr val="00007d"/>
                </a:solidFill>
                <a:latin typeface="Arial"/>
              </a:rPr>
              <a:t>(aq) + HCl(aq) </a:t>
            </a:r>
            <a:r>
              <a:rPr b="1" lang="en-CA" sz="2800" spc="-1" strike="noStrike">
                <a:solidFill>
                  <a:srgbClr val="00007d"/>
                </a:solidFill>
                <a:latin typeface="Wingdings"/>
                <a:ea typeface="Wingdings"/>
              </a:rPr>
              <a:t></a:t>
            </a:r>
            <a:r>
              <a:rPr b="1" lang="en-CA" sz="2800" spc="-1" strike="noStrike">
                <a:solidFill>
                  <a:srgbClr val="00007d"/>
                </a:solidFill>
                <a:latin typeface="Arial"/>
              </a:rPr>
              <a:t> NaCl(aq) +</a:t>
            </a:r>
            <a:r>
              <a:rPr b="0" lang="en-C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1" lang="en-CA" sz="2800" spc="-1" strike="noStrike" baseline="-25000">
                <a:solidFill>
                  <a:srgbClr val="00007d"/>
                </a:solidFill>
                <a:latin typeface="Arial"/>
              </a:rPr>
              <a:t>2</a:t>
            </a:r>
            <a:r>
              <a:rPr b="1" lang="en-CA" sz="2800" spc="-1" strike="noStrike">
                <a:solidFill>
                  <a:srgbClr val="00007d"/>
                </a:solidFill>
                <a:latin typeface="Arial"/>
              </a:rPr>
              <a:t>CO</a:t>
            </a:r>
            <a:r>
              <a:rPr b="1" lang="en-CA" sz="28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r>
              <a:rPr b="1" lang="en-CA" sz="2800" spc="-1" strike="noStrike">
                <a:solidFill>
                  <a:srgbClr val="00007d"/>
                </a:solidFill>
                <a:latin typeface="Arial"/>
              </a:rPr>
              <a:t>(aq)                                              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(Very unstable so it decompos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2. Perform the decomposition: convert the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unstable compound*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into water and a gas.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H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1" lang="en-CA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(l) + CO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g)  (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call from decomposition reactions: Acid </a:t>
            </a:r>
            <a:r>
              <a:rPr b="0" lang="en-CA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Non-metal oxide and water.) Trick: 1st subtract water from the formula of the acid: H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 = CO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(take out 2 H and one 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3. Rewrite the original reaction and replace the acid in the original equation by water and the gas produced.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Na</a:t>
            </a:r>
            <a:r>
              <a:rPr b="1" lang="pt-BR" sz="2400" spc="-1" strike="noStrike" baseline="-25000">
                <a:solidFill>
                  <a:srgbClr val="00007d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CO</a:t>
            </a:r>
            <a:r>
              <a:rPr b="1" lang="pt-BR" sz="24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(aq) + HCl(aq) </a:t>
            </a:r>
            <a:r>
              <a:rPr b="1" lang="en-CA" sz="2400" spc="-1" strike="noStrike">
                <a:solidFill>
                  <a:srgbClr val="00007d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 NaCl(aq) + H</a:t>
            </a:r>
            <a:r>
              <a:rPr b="1" lang="pt-BR" sz="2400" spc="-1" strike="noStrike" baseline="-25000">
                <a:solidFill>
                  <a:srgbClr val="00007d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O (l) + CO</a:t>
            </a:r>
            <a:r>
              <a:rPr b="1" lang="pt-BR" sz="2400" spc="-1" strike="noStrike" baseline="-25000">
                <a:solidFill>
                  <a:srgbClr val="00007d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(g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)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uble Displacement &amp; Neutraliz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Neutralization Reaction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 special type of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ouble displaceme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reaction that produces water and a s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General Equation: 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cid (Usually has H) + Base (usually has OH) </a:t>
            </a:r>
            <a:r>
              <a:rPr b="1" lang="en-C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Water + Ionic Com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 (a salt: ionic compound produced by a neutralization rea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ample Problem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.g. NaOH(aq) + HCl(aq) </a:t>
            </a:r>
            <a:r>
              <a:rPr b="0" lang="en-C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aCl(aq) + 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aq) + NaOH(aq) </a:t>
            </a:r>
            <a:r>
              <a:rPr b="0" lang="en-C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KOH(aq) + H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C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rO(s) + HBr(aq) </a:t>
            </a:r>
            <a:r>
              <a:rPr b="0" lang="en-C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84560" y="1700280"/>
            <a:ext cx="259092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9680" y="2781360"/>
            <a:ext cx="38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Is there only ONE react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080" y="3357720"/>
            <a:ext cx="722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DECOMPOSITION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443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3645000"/>
            <a:ext cx="7993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re should be two products, each being a separate element (i.e. Na, Ca, 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B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although that is not always th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0640" y="4869000"/>
            <a:ext cx="51408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H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 + O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95800" y="1700280"/>
            <a:ext cx="416628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n + Sn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80" y="2781360"/>
            <a:ext cx="81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If there are 2 reactants, is one of them a pure metal on its ow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0240" y="3357720"/>
            <a:ext cx="80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SINGLE DISPLACEMENT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443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645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 metal that is on its own must take the place of the other metal that is in the larger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79800" y="4797360"/>
            <a:ext cx="65988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n + Sn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nCl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+ S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46160" y="1700280"/>
            <a:ext cx="50670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Cl + AgN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9320" y="2781360"/>
            <a:ext cx="515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Are both of the reactants compou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9880" y="3357720"/>
            <a:ext cx="82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DOUBLE DISPLACEMENT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43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3645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 two metals must switch places with one another, forming two new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4160" y="4724280"/>
            <a:ext cx="840024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Cl + AgN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NO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+ Ag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82560" y="1700280"/>
            <a:ext cx="399132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8960" y="2781360"/>
            <a:ext cx="48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Is one of the reactants oxygen g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335772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COMBUSTION REACTION (as well as a SYNTHESIS RE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443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4022640"/>
            <a:ext cx="7993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 products must be an oxide and energy. If one of the reactants is a hydrocarbon, then 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 are the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20" y="5040360"/>
            <a:ext cx="900684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25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6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+ 18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 +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07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olubility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 of a solute is the amount that can be dissolved in a given quantity of solvent at a given temperature.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.g. Pb(NO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 is 56 g/100 mL H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 at 20°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is temperature and pressure 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ree categories: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oluble, slightly soluble, and insolubl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bility Rules and Double Displacement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double displacement reaction occurs if a precipitate forms, a gas is produced or a molecular compound like water is creat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bility r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used to determine if a reaction will occur in a double displacement rea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oth the products are soluble (form ions in solution), th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re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occur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00" y="1173240"/>
            <a:ext cx="90756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CoC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+ 2Na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2(s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+ 6NaC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49480" y="1844640"/>
            <a:ext cx="50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ll this reaction occur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86160" y="2562120"/>
            <a:ext cx="4857840" cy="4295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565360"/>
            <a:ext cx="406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reaction will occur only if the following will b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Solid precip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5661000"/>
            <a:ext cx="2016360" cy="1008000"/>
          </a:xfrm>
          <a:prstGeom prst="wedgeRoundRectCallout">
            <a:avLst>
              <a:gd name="adj1" fmla="val 163935"/>
              <a:gd name="adj2" fmla="val -10007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ility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ing an Insoluble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51280" y="2997360"/>
            <a:ext cx="4764240" cy="3573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4000" y="2394000"/>
            <a:ext cx="3412800" cy="4464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42320" y="1484280"/>
            <a:ext cx="7495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K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bility Ru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mmon ionic compounds in water at 2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12599" r="0" b="0"/>
          <a:stretch/>
        </p:blipFill>
        <p:spPr>
          <a:xfrm>
            <a:off x="395280" y="2205000"/>
            <a:ext cx="82803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ying Solu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solubility chart to verity if the compound is soluble in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bilities Not on the Tab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 only slightly dissolve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acids and bases dissolve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chloric, Hydrobromic, Hydroiodic, Nitric, Sulfuric, Perchloric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 hydroxides (should be on your chart anyw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slightly dissolves in water! (H+ and OH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soluble; Be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products are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tables and rules that cover more compounds than your ta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bility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117440"/>
            <a:ext cx="914400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03:24:19Z</dcterms:created>
  <dc:creator>Natalya</dc:creator>
  <dc:description/>
  <dc:language>en-US</dc:language>
  <cp:lastModifiedBy>Natalya</cp:lastModifiedBy>
  <dcterms:modified xsi:type="dcterms:W3CDTF">2011-10-10T12:04:58Z</dcterms:modified>
  <cp:revision>3</cp:revision>
  <dc:subject/>
  <dc:title>Solubility</dc:title>
</cp:coreProperties>
</file>